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76A4-86FF-4BD8-B258-F6975D4AC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746D-508E-4EAF-8835-B17509993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0027-3B3B-4B58-9E13-DBF453369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D7DF-4E11-4FC0-933C-2DD0B88AE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DFE8-F00D-46AE-B596-1A74B1F62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C780-DFB2-4DAF-97AE-B60D13C7D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EBF3-D941-419C-A8A6-4266DD51F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6E20-B643-4828-A3DF-F6EEC857B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C554-BC67-461E-88E2-39C553462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2751-BB0F-4415-B07B-FCB9809AC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F1D7-B213-4764-ABE3-304EA6899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B607-5926-43ED-A3E5-665136AAE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4669-75C7-44CC-8183-619C59357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182F-A61B-46C1-A4DC-3A41AF909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FA1A-851F-4691-9198-DC7E9207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4D56-303C-4317-BBD5-11FD50833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FDD0-A72A-47A3-8ECE-985AE0706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83BC-FC2A-4F34-B6A4-8F1E57BD4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7FB9-1F33-41C1-8C06-E4C3A9F83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D8FD-49A2-454E-99EC-67238964B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A253-5F65-4A21-A07C-7EFE3B6F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3A31-034D-42FE-99A4-D2C052EE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5661-CD46-4E19-93A0-F31480D44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2DA8-1AAB-4340-9F33-1119C15BE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7A4-525C-4317-97B8-669875F1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26B-DC31-4C60-9FE9-729FD8FA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904-CBF7-4DF0-86F6-FD69EF42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0F6-0378-4267-ABD1-80C26D83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6CB6-416B-4AD8-B9EF-08DB8A1E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1876-F5EB-4947-9A04-41386D07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AFEC-730B-4C39-8065-A1E0BEA5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389D-D713-46B5-B99F-82554DC0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CF7F-A56D-4789-9120-3F210547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1467-6675-441E-A584-FEF1A23C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06FE-EB36-442B-8C98-58777392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38C-5676-455F-8C43-1E225ABC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63EC-CE43-411D-97F8-3155811B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365F-AE53-46D1-8487-99C42191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489E-6752-4844-B051-FF7CB964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2F53-766C-4D23-AC67-68D7353B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233F-E2A5-4311-8A07-9C66D569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9E4-3B07-4725-BDEC-A9EDAA52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65B-C76A-4A64-BAE8-1CD4463C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352-DDD9-4436-AC7A-23603BB7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320-676F-4B84-9F25-818ED0A8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90F-AD2E-4BE9-85B7-CFF4178A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447-6AD8-4B9B-A635-DA068BB1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07B-9AD4-4E56-BCC5-B1D14713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50FF-2803-4977-B464-0FBA8ADBA6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E10E-E653-4F6C-BB21-E9A35D05E6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Progressive Era, 1880-1920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Immigration&amp; Progressivism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million between 1900-19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merican Dr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ements and sweat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ial hierarc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ic en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theastern Europe, Catholic, languages and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olling Immig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82: Immigr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, “idiots, lunatics, convicts, and persons likely to become a public charg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83: Chinese Exclus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igration Act of 189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amists, moral turpitude,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uperintendent of Immi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4: Immigration Restriction Le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5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rea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03: Moved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Commerce &amp;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04: Made anti-Chinese laws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06: Basic Naturaliz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iatic Barred Zone, 1917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Content Placeholder 3" descr="800px-Asiatic_Barred_Zone.png"/>
          <p:cNvPicPr/>
          <p:nvPr/>
        </p:nvPicPr>
        <p:blipFill>
          <a:blip r:embed="rId1"/>
          <a:stretch/>
        </p:blipFill>
        <p:spPr>
          <a:xfrm>
            <a:off x="304920" y="1752480"/>
            <a:ext cx="844704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ttlement House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62160" y="1676160"/>
            <a:ext cx="4724280" cy="46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ne Ad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ull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, health, education,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milation and Americ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 and worst of Progressiv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janeaddams"/>
          <p:cNvPicPr/>
          <p:nvPr/>
        </p:nvPicPr>
        <p:blipFill>
          <a:blip r:embed="rId1"/>
          <a:srcRect l="1885" t="1371" r="1885" b="1371"/>
          <a:stretch/>
        </p:blipFill>
        <p:spPr>
          <a:xfrm>
            <a:off x="457200" y="1676520"/>
            <a:ext cx="3209760" cy="4411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ublic Health and Citie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clean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wa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ilation &amp; fire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ning &amp;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berculosis &amp;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riis3"/>
          <p:cNvPicPr/>
          <p:nvPr/>
        </p:nvPicPr>
        <p:blipFill>
          <a:blip r:embed="rId1"/>
          <a:srcRect l="2553" t="0" r="12766" b="0"/>
          <a:stretch/>
        </p:blipFill>
        <p:spPr>
          <a:xfrm>
            <a:off x="152280" y="1676520"/>
            <a:ext cx="3870360" cy="465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Jacob Riis, 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hotographer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464832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e photogra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graphy and social 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ckr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children,riis"/>
          <p:cNvPicPr/>
          <p:nvPr/>
        </p:nvPicPr>
        <p:blipFill>
          <a:blip r:embed="rId1"/>
          <a:srcRect l="8196" t="7299" r="8196" b="0"/>
          <a:stretch/>
        </p:blipFill>
        <p:spPr>
          <a:xfrm>
            <a:off x="5029200" y="1752480"/>
            <a:ext cx="3660840" cy="4876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rogressive Journalis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uption and social in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e the consciousnes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ality, democracy, 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uckr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a B. Wells and lyn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da Tarbe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Standard 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Upton Sinclai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Jung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19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rogressivism &amp;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ugenic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62520" y="1719000"/>
            <a:ext cx="487656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 superior races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Darw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miscege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-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&amp; organize r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cial p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lligenc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Phrenology"/>
          <p:cNvPicPr/>
          <p:nvPr/>
        </p:nvPicPr>
        <p:blipFill>
          <a:blip r:embed="rId1"/>
          <a:srcRect l="0" t="2748" r="3529" b="2748"/>
          <a:stretch/>
        </p:blipFill>
        <p:spPr>
          <a:xfrm>
            <a:off x="380880" y="1828800"/>
            <a:ext cx="3300480" cy="423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2204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tter families &amp; better babies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7" descr="fitterfamiliesbig"/>
          <p:cNvPicPr/>
          <p:nvPr/>
        </p:nvPicPr>
        <p:blipFill>
          <a:blip r:embed="rId1"/>
          <a:srcRect l="3086" t="2840" r="1029" b="2840"/>
          <a:stretch/>
        </p:blipFill>
        <p:spPr>
          <a:xfrm>
            <a:off x="457200" y="1371600"/>
            <a:ext cx="7304040" cy="5203800"/>
          </a:xfrm>
          <a:prstGeom prst="rect">
            <a:avLst/>
          </a:prstGeom>
          <a:ln w="47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eugenics_laws"/>
          <p:cNvPicPr/>
          <p:nvPr/>
        </p:nvPicPr>
        <p:blipFill>
          <a:blip r:embed="rId1"/>
          <a:srcRect l="3243" t="3200" r="3243" b="3200"/>
          <a:stretch/>
        </p:blipFill>
        <p:spPr>
          <a:xfrm>
            <a:off x="380880" y="304920"/>
            <a:ext cx="8293320" cy="63086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Progressive Era, 1880-192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Picture 6" descr="equal_350"/>
          <p:cNvPicPr/>
          <p:nvPr/>
        </p:nvPicPr>
        <p:blipFill>
          <a:blip r:embed="rId1"/>
          <a:srcRect l="0" t="6605" r="0" b="0"/>
          <a:stretch/>
        </p:blipFill>
        <p:spPr>
          <a:xfrm>
            <a:off x="457200" y="1905120"/>
            <a:ext cx="7997760" cy="4653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81280" y="380880"/>
            <a:ext cx="41911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nvironmentalis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76920" y="175212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Resources as public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rve &amp; prot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but con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ohn M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fford Pinc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P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muir"/>
          <p:cNvPicPr/>
          <p:nvPr/>
        </p:nvPicPr>
        <p:blipFill>
          <a:blip r:embed="rId1"/>
          <a:srcRect l="18604" t="0" r="6201" b="40000"/>
          <a:stretch/>
        </p:blipFill>
        <p:spPr>
          <a:xfrm>
            <a:off x="304920" y="304920"/>
            <a:ext cx="2989080" cy="2958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nchot"/>
          <p:cNvPicPr/>
          <p:nvPr/>
        </p:nvPicPr>
        <p:blipFill>
          <a:blip r:embed="rId2"/>
          <a:srcRect l="2497" t="3750" r="3745" b="18750"/>
          <a:stretch/>
        </p:blipFill>
        <p:spPr>
          <a:xfrm>
            <a:off x="1523880" y="3352680"/>
            <a:ext cx="289728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hild Labor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w public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tton fields, factories and coal 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ople of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ing class poor whites, southe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childminer"/>
          <p:cNvPicPr/>
          <p:nvPr/>
        </p:nvPicPr>
        <p:blipFill>
          <a:blip r:embed="rId1"/>
          <a:srcRect l="0" t="1241" r="0" b="0"/>
          <a:stretch/>
        </p:blipFill>
        <p:spPr>
          <a:xfrm>
            <a:off x="5029200" y="1752480"/>
            <a:ext cx="3254400" cy="473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National Progressivis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05320" y="1752480"/>
            <a:ext cx="5333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of government to regulate nation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dore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st-bu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 Gov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ric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ge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roosevelt,2"/>
          <p:cNvPicPr/>
          <p:nvPr/>
        </p:nvPicPr>
        <p:blipFill>
          <a:blip r:embed="rId1"/>
          <a:srcRect l="17008" t="3512" r="8504" b="3512"/>
          <a:stretch/>
        </p:blipFill>
        <p:spPr>
          <a:xfrm>
            <a:off x="380880" y="1828800"/>
            <a:ext cx="2841840" cy="429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orm Legis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360"/>
            <a:ext cx="83059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06: Pure Food and Drug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13: 1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mendment (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13: 1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mendment (Sena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13: Harrison Act regulated narc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918: 18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Amendment (Prohib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920: 19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Amendment (Women’s vo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04960" y="122400"/>
            <a:ext cx="419076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Racial Equa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8640" y="1719000"/>
            <a:ext cx="52578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Association for the Advancement of Colored People, 19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ety for American Indians, 19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gue of United Latin American Citizens, 19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American Citizens League, 19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dubois1"/>
          <p:cNvPicPr/>
          <p:nvPr/>
        </p:nvPicPr>
        <p:blipFill>
          <a:blip r:embed="rId1"/>
          <a:srcRect l="0" t="6929" r="0" b="0"/>
          <a:stretch/>
        </p:blipFill>
        <p:spPr>
          <a:xfrm>
            <a:off x="380880" y="380880"/>
            <a:ext cx="2257560" cy="2854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arlosmontezuma"/>
          <p:cNvPicPr/>
          <p:nvPr/>
        </p:nvPicPr>
        <p:blipFill>
          <a:blip r:embed="rId2"/>
          <a:stretch/>
        </p:blipFill>
        <p:spPr>
          <a:xfrm>
            <a:off x="990720" y="3505320"/>
            <a:ext cx="1992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men Progress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C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F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minists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’s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ld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anthony_cleveland"/>
          <p:cNvPicPr/>
          <p:nvPr/>
        </p:nvPicPr>
        <p:blipFill>
          <a:blip r:embed="rId1"/>
          <a:srcRect l="4706" t="0" r="2353" b="0"/>
          <a:stretch/>
        </p:blipFill>
        <p:spPr>
          <a:xfrm>
            <a:off x="5257800" y="1905120"/>
            <a:ext cx="3560760" cy="46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Women’s Suffrag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8" name="Picture 9" descr="suff_parade"/>
          <p:cNvPicPr/>
          <p:nvPr/>
        </p:nvPicPr>
        <p:blipFill>
          <a:blip r:embed="rId1"/>
          <a:srcRect l="0" t="0" r="0" b="9917"/>
          <a:stretch/>
        </p:blipFill>
        <p:spPr>
          <a:xfrm>
            <a:off x="685800" y="1752480"/>
            <a:ext cx="7537320" cy="469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rigins of Progressivis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to “extremes” of moder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ism &amp; individu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banization &amp; Indust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“proble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Economic Extreme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e control of industry,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efeller &amp; Oil (19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negie &amp; U.S.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 Four” railr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-democr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trmiddle192"/>
          <p:cNvPicPr/>
          <p:nvPr/>
        </p:nvPicPr>
        <p:blipFill>
          <a:blip r:embed="rId1"/>
          <a:stretch/>
        </p:blipFill>
        <p:spPr>
          <a:xfrm>
            <a:off x="1295280" y="182520"/>
            <a:ext cx="58788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Standard Oil, 1906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Picture 6" descr="standardoiloctopus"/>
          <p:cNvPicPr/>
          <p:nvPr/>
        </p:nvPicPr>
        <p:blipFill>
          <a:blip r:embed="rId1"/>
          <a:srcRect l="0" t="0" r="0" b="6594"/>
          <a:stretch/>
        </p:blipFill>
        <p:spPr>
          <a:xfrm>
            <a:off x="304920" y="1752480"/>
            <a:ext cx="8235720" cy="441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The Other “Extreme”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kes &amp; pro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ights of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ted Mine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W.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iww"/>
          <p:cNvPicPr/>
          <p:nvPr/>
        </p:nvPicPr>
        <p:blipFill>
          <a:blip r:embed="rId1"/>
          <a:srcRect l="3609" t="2520" r="3609" b="2520"/>
          <a:stretch/>
        </p:blipFill>
        <p:spPr>
          <a:xfrm>
            <a:off x="5486400" y="1828800"/>
            <a:ext cx="3135240" cy="45957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iangle Shirtwaist Fir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9076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11 New York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ked d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0 tra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6 women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male labor, bad working conditions, immigrant rights, shop floor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shirtwaistfire"/>
          <p:cNvPicPr/>
          <p:nvPr/>
        </p:nvPicPr>
        <p:blipFill>
          <a:blip r:embed="rId1"/>
          <a:srcRect l="2433" t="1875" r="1217" b="2813"/>
          <a:stretch/>
        </p:blipFill>
        <p:spPr>
          <a:xfrm>
            <a:off x="304920" y="1600200"/>
            <a:ext cx="3682800" cy="472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Deaths from Fir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6" descr="TriangleShirtwaist"/>
          <p:cNvPicPr/>
          <p:nvPr/>
        </p:nvPicPr>
        <p:blipFill>
          <a:blip r:embed="rId1"/>
          <a:srcRect l="0" t="0" r="0" b="3636"/>
          <a:stretch/>
        </p:blipFill>
        <p:spPr>
          <a:xfrm>
            <a:off x="838080" y="1752480"/>
            <a:ext cx="71582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ace</dc:creator>
  <dc:description/>
  <dc:language>en-US</dc:language>
  <cp:lastModifiedBy>Grace</cp:lastModifiedBy>
  <dcterms:modified xsi:type="dcterms:W3CDTF">2015-11-15T15:53:3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